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AF5-60FA-427B-B923-5DAEDF4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36E-10C6-4F3E-9F08-D983FE5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2C6-75AB-4842-93A5-327F13F0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882-2007-4569-BFF8-21CBD46B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2196-C588-41E8-B943-5A67503D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E87A-316F-4648-BB2E-05D12797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335-C651-440E-AF92-D4A505C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7AC-A106-43A7-AAF8-A87BDEB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D175-AF13-4A0A-B7FC-1BB9D16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1968-74AA-48DB-83CD-1B14833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E34B-E61D-4FAE-AB35-F42D863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D9F-0439-451E-8D72-9CC3D62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F6D9-DC67-4986-9467-8BCC40B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0B64-6DF4-47D4-9527-DD9AFF1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557C-8078-4649-A975-D2F187B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832-C103-4F1C-A506-AB88D452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B5A5-789A-4BD2-BCBB-A8289F7B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C6B-0A88-44F8-A671-C2DBD03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FF8-CF43-43C9-9C10-0C0B851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F0A-D766-4652-BBC5-F9AABBF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4F3-15B5-4957-88E3-594C75B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0C1-64DC-4005-AF53-E323D7D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22B-0A9D-44B4-A03F-42A2EAD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8F7-D307-4765-A841-082ADF27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6494-E06E-4B2C-B2AB-61C87447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EBD-B23C-4B90-8915-D95CB529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4036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asino Juran</a:t>
            </a:r>
            <a:br>
              <a:rPr sz="7200"/>
            </a:b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BlackJack2000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71800" y="4290840"/>
            <a:ext cx="54957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 K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1, 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a six-deck shoe with no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yer against the dealer, 10,000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payout rates under various rule reg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success rates under different play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ED1-E1A8-4DD5-B713-0DC6A4E0B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BlackJa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have taken odds from book or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have calculated odds using probabilit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ing a modeling class, we decided to model BJ play and run simulation to generate probable outcomes given play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odularity in playing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odularity in house rules and p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F0E-611C-4EB7-B359-B18A97B4E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21308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4D6-12A3-4C95-90B7-9721F24B3F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J Play and P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438280"/>
            <a:ext cx="7924680" cy="4267440"/>
            <a:chOff x="914400" y="2438280"/>
            <a:chExt cx="7924680" cy="4267440"/>
          </a:xfrm>
        </p:grpSpPr>
        <p:sp>
          <p:nvSpPr>
            <p:cNvPr id="154" name=""/>
            <p:cNvSpPr/>
            <p:nvPr/>
          </p:nvSpPr>
          <p:spPr>
            <a:xfrm>
              <a:off x="914400" y="2438280"/>
              <a:ext cx="792468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054440" y="2512800"/>
              <a:ext cx="7398720" cy="256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124640" y="5283000"/>
              <a:ext cx="7398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1124640" y="5807160"/>
              <a:ext cx="7398720" cy="49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90720" y="1600200"/>
            <a:ext cx="3990960" cy="6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073-8720-4186-BA22-50565E0D50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14600" y="609480"/>
            <a:ext cx="6324120" cy="5943240"/>
            <a:chOff x="2514600" y="609480"/>
            <a:chExt cx="6324120" cy="59432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514600" y="609480"/>
              <a:ext cx="632412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514600" y="849240"/>
              <a:ext cx="6302160" cy="570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838080" y="1143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lay &amp;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: Splitting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9EE-9C4E-49E0-A569-3915A666B1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152280"/>
          <a:ext cx="5762880" cy="64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52280"/>
                    <a:ext cx="576288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066680" y="30492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Hand of BJ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Decision Fo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B2E-E116-486B-8C3F-CCD8D9B0EF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095880" cy="508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1485720" cy="28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41D-9D40-47DA-B34B-844F83F5D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er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612880" cy="39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033-A7C0-47D0-A8D7-096B2F88F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rystal Ball, we ran two simulations of 10,000 BJ hands ea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or the standard BJ payout of 1.5x, one for BJ2000 payout of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followed basic strategy and bas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House Take percentage under different payout reg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383-3D4C-4ACC-9DB6-FBD484E0AE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tion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76520" y="129528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of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AE6-9470-4673-B678-1E9038138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o revenues are stag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o wants to start a new marketing campaign to draw more customers to the BJ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nsidering numerous options, market research has determined that traditional casino tactics such as manipulating playing rules to improve player’s odds have not been sufficiently effective in drawing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C14-36F7-45BD-AA0F-3AD696C80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House Take is 4.7%, ie for every $1 wagered the house keeps about a 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Js on first hand represent 4.65% of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an additional 33% payout for each BJ (including those on splits) will reduce the House Take by almost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sino adopts the BJ2x payout, the House Take drops to 3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BF5-AB64-4C2F-9B6B-7929A5776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iness Dec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924680" cy="1076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79440" y="3241800"/>
            <a:ext cx="7559640" cy="1922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asino decides to offer the BJ 2x payout, the marketing campaign must deliver an additional 24% more dollars wagered, either in the form of additional players, more hands played, or bigger b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095-5AD1-4196-9BCD-18CA2234A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 Thou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of modeling one hand of 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simple “problem” to demonstrate simul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ses of BJ model—flexibility/ 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mpact of other decision rules on casin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26A-C492-48F5-9153-836A3FA56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amblers really want is more winnings—i.e., bigger p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department recommends advertising campaign based on “BlackJack2000: Double Payout for all BlackJac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: to estimate the impact on the house “take” and determine the necessary increase in play volume required to equalize profit under the two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667-4E78-4CEB-9142-5124E44B5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ing the Problem with a Blackjack Simul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odel that would accurately calculate house t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yer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you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use the model as a base to optimize oth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F8C-B432-4187-8C38-C72CD4E784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ino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,000 blackjack hands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’s edge is 4.7% or $0.47 per hand on a $10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payout for blackjack is 1.5x; payout for a win is 1.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6C6-E321-4162-8187-07BE3A49C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Hands Played (or dollars wag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main prof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genuine increase in value for players—a compelling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D51-82CD-4A33-927E-C3B4F57A89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ayout because odds are fixed (assuming decks are “fai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know what increase in volume of hands played will result in equal profits to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3A-B493-4531-9C53-4926CE800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2.0x payout instead of the standard 1.5x p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Take Differential = Expected Percentage under the two payout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(Average Wager x Volume) x House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A19-4698-47F3-BAD4-CC289784F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under the two payout schemes must b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35E-2CF4-43D5-9B5D-763F24979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9:08:54Z</dcterms:created>
  <dc:creator>John Kim</dc:creator>
  <dc:description/>
  <dc:language>en-US</dc:language>
  <cp:lastModifiedBy>Jeffrey S. Link</cp:lastModifiedBy>
  <dcterms:modified xsi:type="dcterms:W3CDTF">2002-05-01T22:29:17Z</dcterms:modified>
  <cp:revision>31</cp:revision>
  <dc:subject/>
  <dc:title>Casino Marino Odds Calculations</dc:title>
</cp:coreProperties>
</file>